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B54-3933-4997-8938-81432505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E4A-791E-49C2-A764-A09A7064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9AE-EA6D-484B-91B7-24010C8D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300-70AF-4A78-B885-AE68A03C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12D0-ACFE-4A2C-A788-2C49149A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5B0E-3B6B-45C9-911E-5CA04C4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03A4-DC93-4F50-9C84-0D41A13F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26BF-1299-4489-917A-88F86C97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2BC6-3E91-4183-8327-439F72D7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FD38-CD38-49FE-BD2B-F54411B0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0DBF-52D5-4060-A747-F12A3795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4B5-5672-4D45-8C6E-80BAB4C7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94E7-B139-491B-991C-842A04CE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C166-ADA9-4C16-8B6C-6444D512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979A-886C-4182-9101-0B5F0919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43D7-2BF0-4EAD-963C-B41B4FC3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C288-243E-43CE-8654-562B80BC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074-1771-4CC1-809C-19FE58DE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0FA-5560-4244-8054-82B54B44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A18-0980-4288-AF47-4F0F385C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836-7D36-4304-9C8B-F41FADF8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26A-4DBF-45E4-8A1B-1D391FF2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E16-BD69-439F-84B0-5FCC122C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DB8-0599-4CDF-96E0-A641CB55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1F47-A573-4F6C-B133-DC3652DF2656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34BF-369D-490B-9E0F-59A7F0361193}" type="slidenum">
              <a:rPr b="0" lang="ro-RO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reenfleet.info/" TargetMode="External"/><Relationship Id="rId2" Type="http://schemas.openxmlformats.org/officeDocument/2006/relationships/hyperlink" Target="http://www.mangus.ro/" TargetMode="External"/><Relationship Id="rId3" Type="http://schemas.openxmlformats.org/officeDocument/2006/relationships/hyperlink" Target="http://www.biodiesel-king.ro/" TargetMode="External"/><Relationship Id="rId4" Type="http://schemas.openxmlformats.org/officeDocument/2006/relationships/hyperlink" Target="http://www.biodiesel-king.ro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95934b"/>
                </a:solidFill>
                <a:latin typeface="Tahoma"/>
              </a:rPr>
              <a:t>Cum au evoluat motoarele</a:t>
            </a: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o-RO" sz="5400" spc="-1" strike="noStrike">
                <a:solidFill>
                  <a:srgbClr val="95934b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Şcoala cu cls. I-VIII “Pavel Da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Tritenii de 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BIOCOMBUSTIBILI: BIODIESEL, BIOETANOL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Puncte f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Preţ redus/scutiri de tax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Resurse domesti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osturi reduse sau adaptarea staţiilor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realiment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Opţiuni în ce priveşte amestecur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Puncte sla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Ofertă limitată de vehicule O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Insuficienţa staţiilor de realiment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BIOCOMBUSTIBILI: BIODIESEL, BIOETANOL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Oportunităţ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preocupări faţă de încălzirea globală/local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reşterea preţurilor la petrol pe termen lu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Provocă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disponibilitatea produselor O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ediu stabil de reglementare şi fisca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arketing public lar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2310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Utilizarea locală (schemă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85800" y="1447920"/>
            <a:ext cx="8458200" cy="5409720"/>
            <a:chOff x="685800" y="1447920"/>
            <a:chExt cx="8458200" cy="5409720"/>
          </a:xfrm>
        </p:grpSpPr>
        <p:sp>
          <p:nvSpPr>
            <p:cNvPr id="445" name=""/>
            <p:cNvSpPr/>
            <p:nvPr/>
          </p:nvSpPr>
          <p:spPr>
            <a:xfrm flipV="1">
              <a:off x="2819520" y="3124080"/>
              <a:ext cx="3886200" cy="243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72200" y="3352680"/>
              <a:ext cx="29718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elucrarea şi utilizarea biodieselului este un concept de dezvoltare ciclica, durabilă, orientată câtre colectivităţile locale tradiţiona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276720" y="1447920"/>
              <a:ext cx="2286000" cy="1371240"/>
              <a:chOff x="3276720" y="1447920"/>
              <a:chExt cx="2286000" cy="1371240"/>
            </a:xfrm>
          </p:grpSpPr>
          <p:sp>
            <p:nvSpPr>
              <p:cNvPr id="448" name=""/>
              <p:cNvSpPr/>
              <p:nvPr/>
            </p:nvSpPr>
            <p:spPr>
              <a:xfrm>
                <a:off x="3429000" y="1447920"/>
                <a:ext cx="1959120" cy="13712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76720" y="1859040"/>
                <a:ext cx="2286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dddcc5"/>
                    </a:solidFill>
                    <a:latin typeface="Tahoma"/>
                    <a:ea typeface="Arial"/>
                  </a:rPr>
                  <a:t>Cultivare rapiţă şi colectare seminţ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85800" y="3352680"/>
              <a:ext cx="1904760" cy="914040"/>
              <a:chOff x="685800" y="3352680"/>
              <a:chExt cx="1904760" cy="914040"/>
            </a:xfrm>
          </p:grpSpPr>
          <p:sp>
            <p:nvSpPr>
              <p:cNvPr id="451" name=""/>
              <p:cNvSpPr/>
              <p:nvPr/>
            </p:nvSpPr>
            <p:spPr>
              <a:xfrm>
                <a:off x="838080" y="3352680"/>
                <a:ext cx="1676520" cy="914040"/>
              </a:xfrm>
              <a:prstGeom prst="rect">
                <a:avLst/>
              </a:prstGeom>
              <a:solidFill>
                <a:srgbClr val="eaeb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85800" y="3504600"/>
                <a:ext cx="1904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dddcc5"/>
                    </a:solidFill>
                    <a:latin typeface="Tahoma"/>
                    <a:ea typeface="Arial"/>
                  </a:rPr>
                  <a:t>Alimentare maşini agrico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3429000" y="3352680"/>
              <a:ext cx="2025360" cy="1447560"/>
              <a:chOff x="3429000" y="3352680"/>
              <a:chExt cx="2025360" cy="1447560"/>
            </a:xfrm>
          </p:grpSpPr>
          <p:sp>
            <p:nvSpPr>
              <p:cNvPr id="454" name=""/>
              <p:cNvSpPr/>
              <p:nvPr/>
            </p:nvSpPr>
            <p:spPr>
              <a:xfrm>
                <a:off x="3473280" y="3352680"/>
                <a:ext cx="1933560" cy="14475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3762000"/>
                <a:ext cx="2025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dddcc5"/>
                    </a:solidFill>
                    <a:latin typeface="Tahoma"/>
                    <a:ea typeface="Arial"/>
                  </a:rPr>
                  <a:t>Prelucrare seminţ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62120" y="5029200"/>
              <a:ext cx="2361960" cy="1752120"/>
              <a:chOff x="762120" y="5029200"/>
              <a:chExt cx="2361960" cy="1752120"/>
            </a:xfrm>
          </p:grpSpPr>
          <p:sp>
            <p:nvSpPr>
              <p:cNvPr id="457" name=""/>
              <p:cNvSpPr/>
              <p:nvPr/>
            </p:nvSpPr>
            <p:spPr>
              <a:xfrm>
                <a:off x="762120" y="5029200"/>
                <a:ext cx="2361960" cy="1752120"/>
              </a:xfrm>
              <a:prstGeom prst="irregularSeal1">
                <a:avLst/>
              </a:prstGeom>
              <a:solidFill>
                <a:srgbClr val="95934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09040" y="5714640"/>
                <a:ext cx="1098000" cy="337320"/>
              </a:xfrm>
              <a:prstGeom prst="rect">
                <a:avLst/>
              </a:prstGeom>
              <a:solidFill>
                <a:srgbClr val="959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dddcc5"/>
                    </a:solidFill>
                    <a:latin typeface="Tahoma"/>
                    <a:ea typeface="Arial"/>
                  </a:rPr>
                  <a:t>Biodies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581280" y="5867280"/>
              <a:ext cx="1981080" cy="990360"/>
              <a:chOff x="3581280" y="5867280"/>
              <a:chExt cx="198108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3657240" y="5867280"/>
                <a:ext cx="1828800" cy="99036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1280" y="6171840"/>
                <a:ext cx="19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Srotur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400800" y="5257800"/>
              <a:ext cx="1828800" cy="990000"/>
              <a:chOff x="6400800" y="5257800"/>
              <a:chExt cx="1828800" cy="990000"/>
            </a:xfrm>
          </p:grpSpPr>
          <p:sp>
            <p:nvSpPr>
              <p:cNvPr id="463" name=""/>
              <p:cNvSpPr/>
              <p:nvPr/>
            </p:nvSpPr>
            <p:spPr>
              <a:xfrm>
                <a:off x="6400800" y="5257800"/>
                <a:ext cx="1828800" cy="990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477120" y="553032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Gliceri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400800" y="1981080"/>
              <a:ext cx="1676520" cy="1218960"/>
              <a:chOff x="6400800" y="1981080"/>
              <a:chExt cx="1676520" cy="1218960"/>
            </a:xfrm>
          </p:grpSpPr>
          <p:sp>
            <p:nvSpPr>
              <p:cNvPr id="466" name=""/>
              <p:cNvSpPr/>
              <p:nvPr/>
            </p:nvSpPr>
            <p:spPr>
              <a:xfrm>
                <a:off x="6400800" y="1981080"/>
                <a:ext cx="1676520" cy="1218960"/>
              </a:xfrm>
              <a:prstGeom prst="ellipse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77120" y="2145960"/>
                <a:ext cx="1600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Alte grăsimi, vegetale sau anima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 flipV="1">
              <a:off x="2362320" y="4571640"/>
              <a:ext cx="1371600" cy="837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4343400" y="2818800"/>
              <a:ext cx="76320" cy="533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5257800" y="4495320"/>
              <a:ext cx="1447920" cy="91404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4495680" y="4800600"/>
              <a:ext cx="76320" cy="1066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4267080"/>
              <a:ext cx="228600" cy="1218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676160" y="2514600"/>
              <a:ext cx="1904760" cy="83772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Concluzii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Biodieselul reprezintă o soluţie ecologica economică şi avantajoasă tehnologic pentru înlocuirea carburanţilor clasic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În prezent, această soluţie este aplicabilă în întreprinderi locale, generalizarea sa fiind împiedicată artificial de politicile globale care susţin în continuare industriile şi tehnologiile bazate pe combustibili convenţionali (hidrocarbur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erinţele Uniunii Europene, forţa de munca ieftină şi suprafeţele agricole mari, ce pot fi cultivate cu rapiţă, fac din Romania un jucător interesant pe piaţa carburanţilor ecologic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5934b"/>
                </a:solidFill>
                <a:latin typeface="Tahoma"/>
              </a:rPr>
              <a:t>Bibliografie :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www.greenfleet.inf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00"/>
                </a:solidFill>
                <a:uFillTx/>
                <a:latin typeface="Tahoma"/>
                <a:hlinkClick r:id="rId2"/>
              </a:rPr>
              <a:t>www.mangus.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00"/>
                </a:solidFill>
                <a:uFillTx/>
                <a:latin typeface="Tahoma"/>
                <a:hlinkClick r:id="rId3"/>
              </a:rPr>
              <a:t>http://www.biodiesel-king.ro</a:t>
            </a:r>
            <a:r>
              <a:rPr b="0" lang="en-US" sz="3200" spc="-1" strike="noStrike" u="sng">
                <a:solidFill>
                  <a:srgbClr val="009900"/>
                </a:solidFill>
                <a:uFillTx/>
                <a:latin typeface="Tahoma"/>
                <a:hlinkClick r:id="rId4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OMBUSTIBILI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456000" cy="2147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22543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611280" y="3581280"/>
            <a:ext cx="3585960" cy="25178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4870440" y="3641760"/>
            <a:ext cx="37371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5934b"/>
                </a:solidFill>
                <a:latin typeface="Tahoma"/>
              </a:rPr>
              <a:t>Ce sunt combustibilii</a:t>
            </a: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 ?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2416320"/>
            <a:ext cx="854064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Combustibilii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– sunt substanţe sau amestecuri de substanţe, care în urma unei reacţii chimice de ardere produc o mare cantitate de căldur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2322720" y="981000"/>
            <a:ext cx="4522680" cy="4522680"/>
            <a:chOff x="2322720" y="981000"/>
            <a:chExt cx="4522680" cy="4522680"/>
          </a:xfrm>
        </p:grpSpPr>
        <p:sp>
          <p:nvSpPr>
            <p:cNvPr id="394" name="_s8216"/>
            <p:cNvSpPr/>
            <p:nvPr/>
          </p:nvSpPr>
          <p:spPr>
            <a:xfrm flipH="1" flipV="1">
              <a:off x="3782880" y="2441160"/>
              <a:ext cx="401400" cy="40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8215"/>
            <p:cNvSpPr/>
            <p:nvPr/>
          </p:nvSpPr>
          <p:spPr>
            <a:xfrm>
              <a:off x="2819520" y="1477800"/>
              <a:ext cx="113184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le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8214"/>
            <p:cNvSpPr/>
            <p:nvPr/>
          </p:nvSpPr>
          <p:spPr>
            <a:xfrm flipH="1">
              <a:off x="3450960" y="3241440"/>
              <a:ext cx="56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8213"/>
            <p:cNvSpPr/>
            <p:nvPr/>
          </p:nvSpPr>
          <p:spPr>
            <a:xfrm>
              <a:off x="2322720" y="2676240"/>
              <a:ext cx="1131840" cy="113220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motorin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8212"/>
            <p:cNvSpPr/>
            <p:nvPr/>
          </p:nvSpPr>
          <p:spPr>
            <a:xfrm flipH="1">
              <a:off x="3782880" y="3639960"/>
              <a:ext cx="401400" cy="40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8211"/>
            <p:cNvSpPr/>
            <p:nvPr/>
          </p:nvSpPr>
          <p:spPr>
            <a:xfrm>
              <a:off x="2819520" y="3875040"/>
              <a:ext cx="113184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hidro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8210"/>
            <p:cNvSpPr/>
            <p:nvPr/>
          </p:nvSpPr>
          <p:spPr>
            <a:xfrm>
              <a:off x="4583160" y="3805200"/>
              <a:ext cx="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8209"/>
            <p:cNvSpPr/>
            <p:nvPr/>
          </p:nvSpPr>
          <p:spPr>
            <a:xfrm>
              <a:off x="4017960" y="4371840"/>
              <a:ext cx="113220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pe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8208"/>
            <p:cNvSpPr/>
            <p:nvPr/>
          </p:nvSpPr>
          <p:spPr>
            <a:xfrm>
              <a:off x="4981680" y="3639960"/>
              <a:ext cx="401760" cy="40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8207"/>
            <p:cNvSpPr/>
            <p:nvPr/>
          </p:nvSpPr>
          <p:spPr>
            <a:xfrm>
              <a:off x="5216760" y="3875040"/>
              <a:ext cx="113184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gaz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me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8204"/>
            <p:cNvSpPr/>
            <p:nvPr/>
          </p:nvSpPr>
          <p:spPr>
            <a:xfrm>
              <a:off x="5146920" y="3241440"/>
              <a:ext cx="56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8203"/>
            <p:cNvSpPr/>
            <p:nvPr/>
          </p:nvSpPr>
          <p:spPr>
            <a:xfrm>
              <a:off x="5713560" y="2676240"/>
              <a:ext cx="1131840" cy="113220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cărbu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8202"/>
            <p:cNvSpPr/>
            <p:nvPr/>
          </p:nvSpPr>
          <p:spPr>
            <a:xfrm flipV="1">
              <a:off x="4981680" y="2441160"/>
              <a:ext cx="401760" cy="40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_s8201"/>
            <p:cNvSpPr/>
            <p:nvPr/>
          </p:nvSpPr>
          <p:spPr>
            <a:xfrm>
              <a:off x="5216760" y="1477800"/>
              <a:ext cx="113184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benzin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_s8200"/>
            <p:cNvSpPr/>
            <p:nvPr/>
          </p:nvSpPr>
          <p:spPr>
            <a:xfrm flipV="1">
              <a:off x="4583160" y="2111400"/>
              <a:ext cx="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_s8199"/>
            <p:cNvSpPr/>
            <p:nvPr/>
          </p:nvSpPr>
          <p:spPr>
            <a:xfrm>
              <a:off x="4017960" y="981000"/>
              <a:ext cx="113220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alc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8198"/>
            <p:cNvSpPr/>
            <p:nvPr/>
          </p:nvSpPr>
          <p:spPr>
            <a:xfrm>
              <a:off x="4017960" y="2678040"/>
              <a:ext cx="113220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combustib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Clasificarea combustibililor: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223000" y="2077200"/>
            <a:ext cx="4038480" cy="1044360"/>
            <a:chOff x="2223000" y="2077200"/>
            <a:chExt cx="4038480" cy="1044360"/>
          </a:xfrm>
        </p:grpSpPr>
        <p:cxnSp>
          <p:nvCxnSpPr>
            <p:cNvPr id="413" name="_s4108"/>
            <p:cNvCxnSpPr>
              <a:stCxn id="414" idx="0"/>
              <a:endCxn id="415" idx="2"/>
            </p:cNvCxnSpPr>
            <p:nvPr/>
          </p:nvCxnSpPr>
          <p:spPr>
            <a:xfrm flipV="1" rot="16200000">
              <a:off x="4840200" y="1888560"/>
              <a:ext cx="226440" cy="1420560"/>
            </a:xfrm>
            <a:prstGeom prst="bentConnector3">
              <a:avLst>
                <a:gd name="adj1" fmla="val 495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6" name="_s4107"/>
            <p:cNvCxnSpPr>
              <a:stCxn id="417" idx="0"/>
              <a:endCxn id="415" idx="2"/>
            </p:cNvCxnSpPr>
            <p:nvPr/>
          </p:nvCxnSpPr>
          <p:spPr>
            <a:xfrm flipV="1">
              <a:off x="4243320" y="2485800"/>
              <a:ext cx="1800" cy="22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8" name="_s4106"/>
            <p:cNvCxnSpPr>
              <a:stCxn id="419" idx="0"/>
              <a:endCxn id="415" idx="2"/>
            </p:cNvCxnSpPr>
            <p:nvPr/>
          </p:nvCxnSpPr>
          <p:spPr>
            <a:xfrm flipH="1" flipV="1" rot="5400000">
              <a:off x="3418920" y="1887120"/>
              <a:ext cx="226440" cy="1423800"/>
            </a:xfrm>
            <a:prstGeom prst="bentConnector3">
              <a:avLst>
                <a:gd name="adj1" fmla="val 495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5" name="_s4102"/>
            <p:cNvSpPr/>
            <p:nvPr/>
          </p:nvSpPr>
          <p:spPr>
            <a:xfrm>
              <a:off x="2838960" y="2077200"/>
              <a:ext cx="280692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după strarea de agreg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4103"/>
            <p:cNvSpPr/>
            <p:nvPr/>
          </p:nvSpPr>
          <p:spPr>
            <a:xfrm>
              <a:off x="2223000" y="271368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soli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4104"/>
            <p:cNvSpPr/>
            <p:nvPr/>
          </p:nvSpPr>
          <p:spPr>
            <a:xfrm>
              <a:off x="3644280" y="271368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lichi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4105"/>
            <p:cNvSpPr/>
            <p:nvPr/>
          </p:nvSpPr>
          <p:spPr>
            <a:xfrm>
              <a:off x="5065920" y="271368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gazoş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291840" y="4237560"/>
            <a:ext cx="2629800" cy="1044360"/>
            <a:chOff x="3291840" y="4237560"/>
            <a:chExt cx="2629800" cy="1044360"/>
          </a:xfrm>
        </p:grpSpPr>
        <p:cxnSp>
          <p:nvCxnSpPr>
            <p:cNvPr id="421" name="_s4117"/>
            <p:cNvCxnSpPr>
              <a:stCxn id="422" idx="0"/>
              <a:endCxn id="423" idx="2"/>
            </p:cNvCxnSpPr>
            <p:nvPr/>
          </p:nvCxnSpPr>
          <p:spPr>
            <a:xfrm flipV="1" rot="16200000">
              <a:off x="4848840" y="4402800"/>
              <a:ext cx="228960" cy="713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4" name="_s4116"/>
            <p:cNvCxnSpPr>
              <a:stCxn id="425" idx="0"/>
              <a:endCxn id="423" idx="2"/>
            </p:cNvCxnSpPr>
            <p:nvPr/>
          </p:nvCxnSpPr>
          <p:spPr>
            <a:xfrm flipH="1" flipV="1" rot="5400000">
              <a:off x="4137120" y="4404240"/>
              <a:ext cx="228960" cy="711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23" name="_s4112"/>
            <p:cNvSpPr/>
            <p:nvPr/>
          </p:nvSpPr>
          <p:spPr>
            <a:xfrm>
              <a:off x="3291840" y="4237560"/>
              <a:ext cx="262980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după modul de obţin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4113"/>
            <p:cNvSpPr/>
            <p:nvPr/>
          </p:nvSpPr>
          <p:spPr>
            <a:xfrm>
              <a:off x="3298680" y="487404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natural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4114"/>
            <p:cNvSpPr/>
            <p:nvPr/>
          </p:nvSpPr>
          <p:spPr>
            <a:xfrm>
              <a:off x="4720320" y="487404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artifici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5934b"/>
                </a:solidFill>
                <a:latin typeface="Tahoma"/>
              </a:rPr>
              <a:t>Puterea calorică (q )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5614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este cantitatea de căldură degajată (Q ) la arderea unui kilogram de substanţ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Unitatea de măsură în S.I.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- pentru solizi şi lichizi :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- pentru gazoşi: 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metru c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529320" y="2378160"/>
                <a:ext cx="18525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Bauhaus 93"/>
              </a:rPr>
              <a:t>Puterile calorice ale câtorva substanţe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ustibil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terea caloric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nz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,698 *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/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to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,569 *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/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ăc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7 *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 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,720 *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 /k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mn (umiditate 4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* 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 /k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95934b"/>
                </a:solidFill>
                <a:latin typeface="Tahoma"/>
              </a:rPr>
              <a:t>CE SUNT BIOCOMBUSTIBILII?</a:t>
            </a:r>
            <a:br>
              <a:rPr sz="4000"/>
            </a:br>
            <a:r>
              <a:rPr b="1" i="1" lang="ro-RO" sz="4000" spc="-1" strike="noStrike">
                <a:solidFill>
                  <a:srgbClr val="95934b"/>
                </a:solidFill>
                <a:latin typeface="Tahoma"/>
              </a:rPr>
              <a:t>(Biodiesel, Bioetanol, Biogaz 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Biocombustibilii sunt combustibili derivaţi din diverse su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ale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biomasei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plante material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anumite tipuri de cultur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uleiuri vegetale reciclate sau deşeur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9337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4549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5934b"/>
                </a:solidFill>
                <a:latin typeface="Tahoma"/>
              </a:rPr>
              <a:t>DE CE SĂ PROMOVĂM BIOCOMBUSTIBILI</a:t>
            </a:r>
            <a:r>
              <a:rPr b="1" lang="ro-RO" sz="4000" spc="-1" strike="noStrike">
                <a:solidFill>
                  <a:srgbClr val="95934b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Biocombustibilii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 pentru transport au devenit o prioritate în ultimii ani. Principalele motive  pentru promovarea biocombustibililor su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ontribuie la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reducerea emisiilor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de gaze cu efect de ser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ontribuie la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securitatea furnizării energiei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promovează o mai intensă utilizare a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energie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651200" y="2347920"/>
            <a:ext cx="41911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9:17:27Z</dcterms:created>
  <dc:creator>aaa</dc:creator>
  <dc:description/>
  <dc:language>en-US</dc:language>
  <cp:lastModifiedBy>aaa</cp:lastModifiedBy>
  <dcterms:modified xsi:type="dcterms:W3CDTF">2010-05-04T20:18:01Z</dcterms:modified>
  <cp:revision>6</cp:revision>
  <dc:subject/>
  <dc:title>Cu au evoluat combustibilii ?</dc:title>
</cp:coreProperties>
</file>